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F1BE-B967-467F-9EDF-56872D819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D978-FB7E-4BFB-B23F-150FAF169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E45C-266B-4216-B1B0-B6C5D7F0F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3930-BC8A-479B-BE31-83047A63B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C0C4-F60B-404F-9D09-455B23741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DE00-8DA5-4E3C-8963-2887DF719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525B-A03B-4181-80E5-2855AD248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A745-9D49-423E-A46B-A8E94D8FC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0096-7D2C-421E-AD27-67AAB4BB7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5C1E-79CB-4FAE-886E-001650094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DC8E-DC20-45E1-812D-654EACB98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4EB1-5A1E-4733-B5FA-37C93A61B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EBB2-002C-4003-8311-0F834D5490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D609-F4F3-4AF2-9D35-F584DDBAFD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E01C-3568-4389-A1F9-70B8BE3532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A8D4-6811-47CA-A55B-8DB400DC7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1D53-CAFE-41CF-9EB9-7267C1A71F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BBBC-65DB-426C-BFCA-96061A7E25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0559-D847-498A-812C-8B11803F4B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E0CB-C62B-4287-A44F-C9E4DE023A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C58-5A3E-48AA-8F9F-8199B40FA9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A0C8-5D99-4E57-AEC8-31ABBE63DF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8DB2-1A06-46D5-9CF8-F6C4B25D42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A672-1BBB-4BD6-BE41-F6EF18E3C2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now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45E-5C77-4E17-8E75-F85364E43D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83A8-0F24-4642-A4F3-AE891A48A2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E947-0BDB-41F0-8712-01D00A5EA2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7969-658F-49D3-8556-8D62ABBC9F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81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ED97-B29F-44CD-8C47-A3FEE01A2B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204-4A39-4E7C-9085-642E93BBF4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371600"/>
            <a:ext cx="8229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2A26-CBFD-44B4-ACF9-167811C13E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98A2-2D11-4CCA-A2F2-0AFB3940CF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086600" y="175248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095520" y="1218960"/>
            <a:ext cx="8384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31:10Z</dcterms:modified>
  <cp:revision>23</cp:revision>
  <dc:subject/>
  <dc:title>&lt;Title&gt;</dc:title>
</cp:coreProperties>
</file>